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C94-FBBC-4E73-9079-8E441D37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B7B-92E3-45C5-B1F5-CD5EA075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D19-87F5-4934-AC48-576A041E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622-4C32-478A-BC0E-5CCB1703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DAA-1F6E-4BE4-9309-169C728E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87F-E60B-4587-AFC9-29E55F13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4FE-8C24-472B-838A-17FDBE40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1F6-643D-41C1-B5A1-F9B66C6E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772-72A9-4B30-9CC5-BAF35284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A2A-3DA4-466C-8A73-6AE0F429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76B-AD05-48B9-B41C-5D55996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BB8-F4A6-405D-A9B6-201E4AED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8642-8B1B-4FE9-AAC9-5803F262C54E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9C3D-0429-4D02-8467-80246ECFD723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-1440" y="1855800"/>
            <a:ext cx="9146880" cy="17161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89280" y="2714760"/>
            <a:ext cx="361152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八年级下册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200160" y="2031840"/>
            <a:ext cx="8743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本章复习和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633240" y="843120"/>
            <a:ext cx="7512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3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如图所示，正常使用时属于费力机械的是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:\罗梦\2017春下\人八物下\人八物导学案（下）\HZX20A.TIF"/>
          <p:cNvPicPr/>
          <p:nvPr/>
        </p:nvPicPr>
        <p:blipFill>
          <a:blip r:embed="rId1"/>
          <a:stretch/>
        </p:blipFill>
        <p:spPr>
          <a:xfrm>
            <a:off x="1343160" y="2185920"/>
            <a:ext cx="6669000" cy="1733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881000" y="13971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567080" y="4060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等臂杠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142800" y="4060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轮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6666120" y="4060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轮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685760" y="4060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费力杠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666720" y="50796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4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如图所示，图中是一个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滑轮，如果物体在水平面上做匀速直线运动，拉力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0N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物体受到的摩擦力大小为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若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拉滑轮运动的速度是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m/s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则物体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移动的速度是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E:\罗梦\2017春下\人八物下\人八物导学案（下）\HZX26-1.TIF"/>
          <p:cNvPicPr/>
          <p:nvPr/>
        </p:nvPicPr>
        <p:blipFill>
          <a:blip r:embed="rId1"/>
          <a:stretch/>
        </p:blipFill>
        <p:spPr>
          <a:xfrm>
            <a:off x="4680000" y="2475000"/>
            <a:ext cx="3406680" cy="1917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6114600" y="493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935680" y="1370160"/>
            <a:ext cx="6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5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076400" y="2214720"/>
            <a:ext cx="10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2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7"/>
          <p:cNvGrpSpPr/>
          <p:nvPr/>
        </p:nvGrpSpPr>
        <p:grpSpPr>
          <a:xfrm>
            <a:off x="666720" y="3029040"/>
            <a:ext cx="3687840" cy="1363680"/>
            <a:chOff x="666720" y="3029040"/>
            <a:chExt cx="3687840" cy="1363680"/>
          </a:xfrm>
        </p:grpSpPr>
        <p:sp>
          <p:nvSpPr>
            <p:cNvPr id="112" name="椭圆形标注 3"/>
            <p:cNvSpPr/>
            <p:nvPr/>
          </p:nvSpPr>
          <p:spPr>
            <a:xfrm>
              <a:off x="666720" y="3029040"/>
              <a:ext cx="3679560" cy="1363680"/>
            </a:xfrm>
            <a:prstGeom prst="wedgeEllipseCallout">
              <a:avLst>
                <a:gd name="adj1" fmla="val 49226"/>
                <a:gd name="adj2" fmla="val -40212"/>
              </a:avLst>
            </a:prstGeom>
            <a:solidFill>
              <a:srgbClr val="ffffff"/>
            </a:solidFill>
            <a:ln w="1908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699840" y="3222720"/>
              <a:ext cx="365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Franklin Gothic Medium"/>
                  <a:ea typeface="黑体"/>
                </a:rPr>
                <a:t>绳子一端移动速度等于物体移动速度的</a:t>
              </a:r>
              <a:r>
                <a:rPr b="1" lang="en-US" sz="2800" spc="-1" strike="noStrike">
                  <a:solidFill>
                    <a:srgbClr val="ff0000"/>
                  </a:solidFill>
                  <a:latin typeface="Franklin Gothic Medium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ff0000"/>
                  </a:solidFill>
                  <a:latin typeface="Franklin Gothic Medium"/>
                  <a:ea typeface="黑体"/>
                </a:rPr>
                <a:t>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700200" y="298440"/>
            <a:ext cx="757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5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如图所示，滑轮下挂重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00N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的物体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滑轮重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0N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绳和杠杆都是轻质的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要在图示位置使杠杆平衡，在杠杆的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点所加的竖直向上的力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应是（杠杆上标度的间距相等）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1430280" y="20844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.270N     B.360N     C.540N     D.720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E:\罗梦\2017春下\人八物下\人八物导学案（下）\HZX25-1.TIF"/>
          <p:cNvPicPr/>
          <p:nvPr/>
        </p:nvPicPr>
        <p:blipFill>
          <a:blip r:embed="rId1"/>
          <a:stretch/>
        </p:blipFill>
        <p:spPr>
          <a:xfrm>
            <a:off x="2673360" y="2771640"/>
            <a:ext cx="2335320" cy="1908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7048800" y="15908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6"/>
          <p:cNvGrpSpPr/>
          <p:nvPr/>
        </p:nvGrpSpPr>
        <p:grpSpPr>
          <a:xfrm>
            <a:off x="5364000" y="3508200"/>
            <a:ext cx="2132640" cy="841680"/>
            <a:chOff x="5364000" y="3508200"/>
            <a:chExt cx="2132640" cy="841680"/>
          </a:xfrm>
        </p:grpSpPr>
        <p:sp>
          <p:nvSpPr>
            <p:cNvPr id="119" name="TextBox 4"/>
            <p:cNvSpPr/>
            <p:nvPr/>
          </p:nvSpPr>
          <p:spPr>
            <a:xfrm>
              <a:off x="5562000" y="3651120"/>
              <a:ext cx="193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Franklin Gothic Medium"/>
                  <a:ea typeface="黑体"/>
                </a:rPr>
                <a:t>G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Franklin Gothic Medium"/>
                  <a:ea typeface="黑体"/>
                </a:rPr>
                <a:t>总</a:t>
              </a:r>
              <a:r>
                <a:rPr b="1" lang="en-US" sz="2800" spc="-1" strike="noStrike">
                  <a:solidFill>
                    <a:srgbClr val="ff0000"/>
                  </a:solidFill>
                  <a:latin typeface="Franklin Gothic Medium"/>
                  <a:ea typeface="黑体"/>
                </a:rPr>
                <a:t>·4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Franklin Gothic Medium"/>
                  <a:ea typeface="黑体"/>
                </a:rPr>
                <a:t>l</a:t>
              </a:r>
              <a:r>
                <a:rPr b="1" lang="en-US" sz="2800" spc="-1" strike="noStrike">
                  <a:solidFill>
                    <a:srgbClr val="ff0000"/>
                  </a:solidFill>
                  <a:latin typeface="Franklin Gothic Medium"/>
                  <a:ea typeface="黑体"/>
                </a:rPr>
                <a:t>=F·3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Franklin Gothic Medium"/>
                  <a:ea typeface="黑体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对象 5" descr=""/>
            <p:cNvPicPr/>
            <p:nvPr/>
          </p:nvPicPr>
          <p:blipFill>
            <a:blip r:embed="rId2"/>
            <a:stretch/>
          </p:blipFill>
          <p:spPr>
            <a:xfrm>
              <a:off x="5364000" y="3508200"/>
              <a:ext cx="316080" cy="84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9"/>
          <p:cNvSpPr/>
          <p:nvPr/>
        </p:nvSpPr>
        <p:spPr>
          <a:xfrm>
            <a:off x="601560" y="1190520"/>
            <a:ext cx="1638360" cy="47628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机械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2023920" y="1191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机械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309600" y="141120"/>
            <a:ext cx="172728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5"/>
          <p:cNvSpPr/>
          <p:nvPr/>
        </p:nvSpPr>
        <p:spPr>
          <a:xfrm>
            <a:off x="874800" y="2201760"/>
            <a:ext cx="7057800" cy="606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　  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．定义：有用功跟总功的比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7"/>
          <p:cNvSpPr/>
          <p:nvPr/>
        </p:nvSpPr>
        <p:spPr>
          <a:xfrm>
            <a:off x="874800" y="2967120"/>
            <a:ext cx="7067520" cy="8748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　  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．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7"/>
          <p:cNvSpPr/>
          <p:nvPr/>
        </p:nvSpPr>
        <p:spPr>
          <a:xfrm>
            <a:off x="874800" y="3998880"/>
            <a:ext cx="7057800" cy="592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　  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．用百分数表示。总小于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对象 8" descr=""/>
          <p:cNvPicPr/>
          <p:nvPr/>
        </p:nvPicPr>
        <p:blipFill>
          <a:blip r:embed="rId1"/>
          <a:stretch/>
        </p:blipFill>
        <p:spPr>
          <a:xfrm>
            <a:off x="3186000" y="3014640"/>
            <a:ext cx="16639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873000" y="1333440"/>
            <a:ext cx="697068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减轻机械自重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减小机械间的摩擦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润滑油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允许情况下增加物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996840" y="719280"/>
            <a:ext cx="3475080" cy="43308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提高机械效率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566640" y="138240"/>
            <a:ext cx="764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例题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6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某实验小组利用如图所示装置研究杠杆的机械效率，实验的主要步骤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E:\罗梦\2017春下\人八物下\人八物导学案（下）\YP15.TIF"/>
          <p:cNvPicPr/>
          <p:nvPr/>
        </p:nvPicPr>
        <p:blipFill>
          <a:blip r:embed="rId1"/>
          <a:stretch/>
        </p:blipFill>
        <p:spPr>
          <a:xfrm>
            <a:off x="6751800" y="1446120"/>
            <a:ext cx="2060280" cy="2328840"/>
          </a:xfrm>
          <a:prstGeom prst="rect">
            <a:avLst/>
          </a:prstGeom>
          <a:ln w="0">
            <a:noFill/>
          </a:ln>
        </p:spPr>
      </p:pic>
      <p:sp>
        <p:nvSpPr>
          <p:cNvPr id="132" name="矩形 2"/>
          <p:cNvSpPr/>
          <p:nvPr/>
        </p:nvSpPr>
        <p:spPr>
          <a:xfrm>
            <a:off x="566640" y="1033560"/>
            <a:ext cx="609300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用轻绳悬挂杠杆一端的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点作为支点，在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点用轻绳悬挂总重为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的钩码，在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点用轻绳竖直悬挂一个弹簧测力计，使杠杆保持水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竖直向上拉动弹簧测力计缓慢匀速上升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保持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点位置不变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在此过程中弹簧测力计的读数为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利用刻度尺分别测出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两点上升的高度为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回答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608040" y="646200"/>
            <a:ext cx="768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杠杆机械效率的表达式为</a:t>
            </a:r>
            <a:r>
              <a:rPr b="1" i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=____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。（用已知或测量的物理量符号表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本次实验中，若提升的钩码重一定，则影响杠杆机械效率的主要因素是：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若只将钩码的悬挂点由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移至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位置不变，仍将钩码提升相同的高度，则杠杆的机械效率将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(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选填“变大”“变小”或“不变”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6622560" y="1892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杠杆的自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3083040" y="3184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对象 4" descr=""/>
          <p:cNvPicPr/>
          <p:nvPr/>
        </p:nvPicPr>
        <p:blipFill>
          <a:blip r:embed="rId1"/>
          <a:stretch/>
        </p:blipFill>
        <p:spPr>
          <a:xfrm>
            <a:off x="6637320" y="501480"/>
            <a:ext cx="14842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743040" y="569880"/>
            <a:ext cx="7596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解析：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利用杠杆来提升重物，弹簧测力计的拉力所做的功为总功，提升钩码时，对钩码做的功为有用功，克服杠杆的重力做的功为额外功，根据功的计算式和机械效率的定义可得杠杆机械效率的表达式</a:t>
            </a:r>
            <a:r>
              <a:rPr b="1" i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η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G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Medium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F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Medium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100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%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；在钩码重一定时，提升相同高度，则有用功一定，因此影响机械效率的主要原因是额外功，即克服杠杆的重力所做的功；当钩码位置移到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点时，将钩码提升相同的高度，则杠杆的重心向上移动的距离变小，即额外功减小，根据机械效率的定义可知，此时机械效率变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"/>
          <p:cNvSpPr/>
          <p:nvPr/>
        </p:nvSpPr>
        <p:spPr>
          <a:xfrm>
            <a:off x="474840" y="355680"/>
            <a:ext cx="815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7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小刚小组探究了影响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轮组机械效率的因素后，联想斜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也是一种机械，那么斜面的机械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率与斜面的哪些因素有关呢？小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猜想斜面的机械效率可能跟斜面的粗糙程度有关，小萌猜想可能跟斜面的倾斜程度有关。于是他们将一块长木板的一端垫高，构成长度一定、高度可调的斜面，用弹簧测力计拉着同一木块沿不同的斜面匀速向上运动，如图所示，下表是他们实验记录的有关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罗梦\2017春下\人八物下\人八物导学案（下）\WL16.TIF"/>
          <p:cNvPicPr/>
          <p:nvPr/>
        </p:nvPicPr>
        <p:blipFill>
          <a:blip r:embed="rId1"/>
          <a:stretch/>
        </p:blipFill>
        <p:spPr>
          <a:xfrm>
            <a:off x="6122880" y="914400"/>
            <a:ext cx="270684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557280" y="133200"/>
          <a:ext cx="8029440" cy="4876920"/>
        </p:xfrm>
        <a:graphic>
          <a:graphicData uri="http://schemas.openxmlformats.org/drawingml/2006/table">
            <a:tbl>
              <a:tblPr/>
              <a:tblGrid>
                <a:gridCol w="646200"/>
                <a:gridCol w="717480"/>
                <a:gridCol w="598320"/>
                <a:gridCol w="655920"/>
                <a:gridCol w="888840"/>
                <a:gridCol w="1114560"/>
                <a:gridCol w="788760"/>
                <a:gridCol w="906480"/>
                <a:gridCol w="771480"/>
                <a:gridCol w="941400"/>
              </a:tblGrid>
              <a:tr h="1320840"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次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斜面倾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斜面材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重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斜面高度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沿斜面拉力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斜面长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用功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1" lang="zh-CN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功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1" lang="zh-CN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机械效率</a:t>
                      </a:r>
                      <a:r>
                        <a:rPr b="1" i="1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1000"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玻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4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1360"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1360"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毛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8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1000"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1360"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毛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7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7"/>
          <p:cNvSpPr/>
          <p:nvPr/>
        </p:nvSpPr>
        <p:spPr>
          <a:xfrm>
            <a:off x="504720" y="689040"/>
            <a:ext cx="17226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504720" y="1278000"/>
            <a:ext cx="817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认识杠杆，知道杠杆的的种类及其应用，理解杠杆的平衡条件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知道滑轮、斜面等简单机械的特点，会使用简单机械改变力的大小和方向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理解什么是机械效率，能正确分析简单机械的机械效率，并能进行功、功率、机械效率的综合计算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13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47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8" name="TextBox 15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标要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469800" y="289080"/>
            <a:ext cx="79614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在第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次实验中，选用玻璃、木板、毛巾作为斜面表面的材料，是为了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在第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次实验中，拉力做的总功是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J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斜面的机械效率是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分析第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次实验数据，可以得出：当其他条件一定时，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若通过分析第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次实验数据，得出斜面倾斜程度越大，斜面的机械效率越大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你认为存在的问题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实验中还发现，斜面材料相同时，斜面倾角越小，越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填“省力”或“费力”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5290560" y="674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改变接触面的粗糙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6545520" y="110160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2827800" y="15127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58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2176560" y="2341440"/>
            <a:ext cx="62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斜面的粗糙程度越大（或小），斜面的机械效率越低（或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1536840" y="3486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没有控制接触面的粗糙程度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1663560" y="4287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省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733320" y="423720"/>
            <a:ext cx="761364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解析：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通过表格数据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可以看出，斜面的机械效率与粗糙程度有关，斜面越粗糙，机械效率越低；拉物体时拉力沿斜面向上，拉力做的功为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W=Fs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为总功，克服木块重力做的功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Franklin Gothic Medium"/>
                <a:ea typeface="楷体_GB2312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Gh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为有用功，其机械效率</a:t>
            </a:r>
            <a:r>
              <a:rPr b="1" i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η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Franklin Gothic Medium"/>
                <a:ea typeface="楷体_GB2312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W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Franklin Gothic Medium"/>
                <a:ea typeface="楷体_GB2312"/>
              </a:rPr>
              <a:t>总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；实验的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次实验中斜面的倾角不同，斜面的粗糙程度不同，没有很好地控制变量，故不能得出正确的结论；通过实验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可以看出，在斜面粗糙程度相同时，斜面的倾角越小，所用的拉力越小，即越省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2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150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51" name="TextBox 3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教学板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6" descr="E:\罗梦\2017春下\人八物下\人八物导学案（下）\本章复习6-X.TIF"/>
          <p:cNvPicPr/>
          <p:nvPr/>
        </p:nvPicPr>
        <p:blipFill>
          <a:blip r:embed="rId1"/>
          <a:stretch/>
        </p:blipFill>
        <p:spPr>
          <a:xfrm>
            <a:off x="1330200" y="806400"/>
            <a:ext cx="615312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12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154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55" name="TextBox 3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布置作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2"/>
          <p:cNvSpPr/>
          <p:nvPr/>
        </p:nvSpPr>
        <p:spPr>
          <a:xfrm>
            <a:off x="1959120" y="1409760"/>
            <a:ext cx="597204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课后习题中选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练习册本课时的习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9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50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51" name="TextBox 11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本章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4"/>
          <p:cNvSpPr/>
          <p:nvPr/>
        </p:nvSpPr>
        <p:spPr>
          <a:xfrm>
            <a:off x="2665440" y="700200"/>
            <a:ext cx="48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杠杆及其平衡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950760" y="728640"/>
            <a:ext cx="172728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6"/>
          <p:cNvSpPr/>
          <p:nvPr/>
        </p:nvSpPr>
        <p:spPr>
          <a:xfrm>
            <a:off x="1246320" y="1455840"/>
            <a:ext cx="2703240" cy="47448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杠杆的五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7"/>
          <p:cNvSpPr/>
          <p:nvPr/>
        </p:nvSpPr>
        <p:spPr>
          <a:xfrm>
            <a:off x="1246320" y="201456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支点：杠杆可以绕其转动的点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8"/>
          <p:cNvSpPr/>
          <p:nvPr/>
        </p:nvSpPr>
        <p:spPr>
          <a:xfrm>
            <a:off x="1246320" y="2492280"/>
            <a:ext cx="52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动力：使杠杆转动的力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9"/>
          <p:cNvSpPr/>
          <p:nvPr/>
        </p:nvSpPr>
        <p:spPr>
          <a:xfrm>
            <a:off x="1246320" y="2973240"/>
            <a:ext cx="52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阻力：阻碍杠杆转动的力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1246320" y="3454560"/>
            <a:ext cx="692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动力臂：从支点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到动力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作用线的距离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1"/>
          <p:cNvSpPr/>
          <p:nvPr/>
        </p:nvSpPr>
        <p:spPr>
          <a:xfrm>
            <a:off x="1246320" y="3935520"/>
            <a:ext cx="692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阻力臂：从支点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到阻力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作用线的距离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98"/>
          <p:cNvSpPr/>
          <p:nvPr/>
        </p:nvSpPr>
        <p:spPr>
          <a:xfrm>
            <a:off x="719280" y="201600"/>
            <a:ext cx="3105000" cy="58428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杠杆的平衡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9"/>
          <p:cNvSpPr/>
          <p:nvPr/>
        </p:nvSpPr>
        <p:spPr>
          <a:xfrm>
            <a:off x="923760" y="793800"/>
            <a:ext cx="49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动力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动力臂＝阻力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阻力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976000" y="785880"/>
            <a:ext cx="1468440" cy="57960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00200" y="1511280"/>
          <a:ext cx="7713720" cy="3371760"/>
        </p:xfrm>
        <a:graphic>
          <a:graphicData uri="http://schemas.openxmlformats.org/drawingml/2006/table">
            <a:tbl>
              <a:tblPr/>
              <a:tblGrid>
                <a:gridCol w="1998720"/>
                <a:gridCol w="2509920"/>
                <a:gridCol w="3205080"/>
              </a:tblGrid>
              <a:tr h="50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杠杆的分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特点概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实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省力杠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省力费距离，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l</a:t>
                      </a:r>
                      <a:r>
                        <a:rPr b="1" lang="zh-CN" sz="24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动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大于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l</a:t>
                      </a:r>
                      <a:r>
                        <a:rPr b="1" lang="zh-CN" sz="24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用开瓶器开瓶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用指甲剪剪指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用羊角锤拔钉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费力杠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费力省距离，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l</a:t>
                      </a:r>
                      <a:r>
                        <a:rPr b="1" lang="zh-CN" sz="24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动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小于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l</a:t>
                      </a:r>
                      <a:r>
                        <a:rPr b="1" lang="zh-CN" sz="24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用镊子夹砝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用筷子夹东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等臂杠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不费力也不省距离，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l</a:t>
                      </a:r>
                      <a:r>
                        <a:rPr b="1" lang="zh-CN" sz="24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动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等于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l</a:t>
                      </a:r>
                      <a:r>
                        <a:rPr b="1" lang="zh-CN" sz="24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天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>
            <a:off x="490680" y="-1440"/>
            <a:ext cx="76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1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小强在探究“杠杆的平衡条件”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490680" y="496800"/>
            <a:ext cx="794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为了便于测量力臂，他先调节杠杆两端的平衡螺母，使杠杆在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位置平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下表是小强的实验记录，在这两组数据中，他发现实验序号为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的一组数据是错误的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经检查，结果是测量阻力臂时读错了，阻力臂的实际值应为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m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；通过探究，小强得到杠杆的平衡条件是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87360" y="3616200"/>
          <a:ext cx="6095880" cy="1444680"/>
        </p:xfrm>
        <a:graphic>
          <a:graphicData uri="http://schemas.openxmlformats.org/drawingml/2006/table">
            <a:tbl>
              <a:tblPr/>
              <a:tblGrid>
                <a:gridCol w="1128600"/>
                <a:gridCol w="1182960"/>
                <a:gridCol w="1346040"/>
                <a:gridCol w="1136520"/>
                <a:gridCol w="1301760"/>
              </a:tblGrid>
              <a:tr h="674280"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序号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力</a:t>
                      </a: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力臂</a:t>
                      </a: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阻力</a:t>
                      </a: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阻力臂</a:t>
                      </a: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4"/>
          <p:cNvSpPr/>
          <p:nvPr/>
        </p:nvSpPr>
        <p:spPr>
          <a:xfrm>
            <a:off x="4408920" y="9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3"/>
          <p:cNvSpPr/>
          <p:nvPr/>
        </p:nvSpPr>
        <p:spPr>
          <a:xfrm>
            <a:off x="4296240" y="1814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6"/>
          <p:cNvSpPr/>
          <p:nvPr/>
        </p:nvSpPr>
        <p:spPr>
          <a:xfrm>
            <a:off x="2397600" y="261936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2682360" y="3059280"/>
            <a:ext cx="144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Franklin Gothic Medium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Franklin Gothic Medium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Medium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Franklin Gothic Medium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Medium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Franklin Gothic Medium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Medium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Franklin Gothic Medium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650880" y="369720"/>
            <a:ext cx="78804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2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如图甲所示，不计重力的杠杆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可绕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点转动，重为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6N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的物体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悬挂在杠杆的中点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处，拉力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与杠杆成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角，杠杆在水平位置保持平衡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状态下拉力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=_____N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试作出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的力臂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4174200" y="1639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E:\罗梦\2017春下\人八物下\人八物导学案（下）\HZX19-X.TIF"/>
          <p:cNvPicPr/>
          <p:nvPr/>
        </p:nvPicPr>
        <p:blipFill>
          <a:blip r:embed="rId1"/>
          <a:srcRect l="0" t="0" r="55575" b="0"/>
          <a:stretch/>
        </p:blipFill>
        <p:spPr>
          <a:xfrm>
            <a:off x="2697120" y="2316240"/>
            <a:ext cx="3336840" cy="2593800"/>
          </a:xfrm>
          <a:prstGeom prst="rect">
            <a:avLst/>
          </a:prstGeom>
          <a:ln w="0">
            <a:noFill/>
          </a:ln>
        </p:spPr>
      </p:pic>
      <p:sp>
        <p:nvSpPr>
          <p:cNvPr id="74" name="直接连接符 6"/>
          <p:cNvSpPr/>
          <p:nvPr/>
        </p:nvSpPr>
        <p:spPr>
          <a:xfrm flipH="1" flipV="1">
            <a:off x="3687480" y="2241720"/>
            <a:ext cx="920520" cy="5205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8"/>
          <p:cNvSpPr/>
          <p:nvPr/>
        </p:nvSpPr>
        <p:spPr>
          <a:xfrm flipV="1">
            <a:off x="3205080" y="2316240"/>
            <a:ext cx="561960" cy="10065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3476520" y="2558880"/>
            <a:ext cx="67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Franklin Gothic Medium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4"/>
          <p:cNvSpPr/>
          <p:nvPr/>
        </p:nvSpPr>
        <p:spPr>
          <a:xfrm>
            <a:off x="2023920" y="1191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滑轮和其他简单机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309600" y="141120"/>
            <a:ext cx="172728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8"/>
          <p:cNvGrpSpPr/>
          <p:nvPr/>
        </p:nvGrpSpPr>
        <p:grpSpPr>
          <a:xfrm>
            <a:off x="1066680" y="863640"/>
            <a:ext cx="7486920" cy="1923840"/>
            <a:chOff x="1066680" y="863640"/>
            <a:chExt cx="7486920" cy="1923840"/>
          </a:xfrm>
        </p:grpSpPr>
        <p:grpSp>
          <p:nvGrpSpPr>
            <p:cNvPr id="80" name="组合 10"/>
            <p:cNvGrpSpPr/>
            <p:nvPr/>
          </p:nvGrpSpPr>
          <p:grpSpPr>
            <a:xfrm>
              <a:off x="1066680" y="1100520"/>
              <a:ext cx="7486920" cy="1521000"/>
              <a:chOff x="1066680" y="1100520"/>
              <a:chExt cx="7486920" cy="1521000"/>
            </a:xfrm>
          </p:grpSpPr>
          <p:sp>
            <p:nvSpPr>
              <p:cNvPr id="81" name="圆角矩形 7"/>
              <p:cNvSpPr/>
              <p:nvPr/>
            </p:nvSpPr>
            <p:spPr>
              <a:xfrm>
                <a:off x="1333080" y="1100520"/>
                <a:ext cx="7220520" cy="152100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接连接符 9"/>
              <p:cNvSpPr/>
              <p:nvPr/>
            </p:nvSpPr>
            <p:spPr>
              <a:xfrm>
                <a:off x="1066680" y="1860840"/>
                <a:ext cx="748692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圆角矩形 4"/>
            <p:cNvSpPr/>
            <p:nvPr/>
          </p:nvSpPr>
          <p:spPr>
            <a:xfrm>
              <a:off x="1695240" y="863640"/>
              <a:ext cx="6455160" cy="56916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定义：使用时，轴固定不动的滑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圆角矩形 5"/>
            <p:cNvSpPr/>
            <p:nvPr/>
          </p:nvSpPr>
          <p:spPr>
            <a:xfrm>
              <a:off x="1695240" y="1536480"/>
              <a:ext cx="6455160" cy="569160"/>
            </a:xfrm>
            <a:prstGeom prst="roundRect">
              <a:avLst>
                <a:gd name="adj" fmla="val 16667"/>
              </a:avLst>
            </a:prstGeom>
            <a:solidFill>
              <a:srgbClr val="88b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实质：等臂杠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圆角矩形 6"/>
            <p:cNvSpPr/>
            <p:nvPr/>
          </p:nvSpPr>
          <p:spPr>
            <a:xfrm>
              <a:off x="1695240" y="2218320"/>
              <a:ext cx="6455160" cy="569160"/>
            </a:xfrm>
            <a:prstGeom prst="roundRect">
              <a:avLst>
                <a:gd name="adj" fmla="val 16667"/>
              </a:avLst>
            </a:prstGeom>
            <a:solidFill>
              <a:srgbClr val="99c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特点：不能省力，但可以改变力的方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5"/>
          <p:cNvGrpSpPr/>
          <p:nvPr/>
        </p:nvGrpSpPr>
        <p:grpSpPr>
          <a:xfrm>
            <a:off x="1104840" y="3006720"/>
            <a:ext cx="7591320" cy="1924200"/>
            <a:chOff x="1104840" y="3006720"/>
            <a:chExt cx="7591320" cy="1924200"/>
          </a:xfrm>
        </p:grpSpPr>
        <p:grpSp>
          <p:nvGrpSpPr>
            <p:cNvPr id="87" name="组合 13"/>
            <p:cNvGrpSpPr/>
            <p:nvPr/>
          </p:nvGrpSpPr>
          <p:grpSpPr>
            <a:xfrm>
              <a:off x="1104840" y="3243600"/>
              <a:ext cx="7591320" cy="1521360"/>
              <a:chOff x="1104840" y="3243600"/>
              <a:chExt cx="7591320" cy="1521360"/>
            </a:xfrm>
          </p:grpSpPr>
          <p:sp>
            <p:nvSpPr>
              <p:cNvPr id="88" name="圆角矩形 17"/>
              <p:cNvSpPr/>
              <p:nvPr/>
            </p:nvSpPr>
            <p:spPr>
              <a:xfrm>
                <a:off x="1312560" y="3243600"/>
                <a:ext cx="7383600" cy="152136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195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接连接符 18"/>
              <p:cNvSpPr/>
              <p:nvPr/>
            </p:nvSpPr>
            <p:spPr>
              <a:xfrm>
                <a:off x="1104840" y="4004280"/>
                <a:ext cx="7591320" cy="0"/>
              </a:xfrm>
              <a:prstGeom prst="line">
                <a:avLst/>
              </a:prstGeom>
              <a:ln w="19080">
                <a:solidFill>
                  <a:srgbClr val="195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圆角矩形 14"/>
            <p:cNvSpPr/>
            <p:nvPr/>
          </p:nvSpPr>
          <p:spPr>
            <a:xfrm>
              <a:off x="1674720" y="3006720"/>
              <a:ext cx="6688080" cy="569160"/>
            </a:xfrm>
            <a:prstGeom prst="roundRect">
              <a:avLst>
                <a:gd name="adj" fmla="val 1666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定义：工作时，轴随物体一起运动的滑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18"/>
            <p:cNvSpPr/>
            <p:nvPr/>
          </p:nvSpPr>
          <p:spPr>
            <a:xfrm>
              <a:off x="1674720" y="3679920"/>
              <a:ext cx="6688080" cy="5698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Franklin Gothic Medium"/>
                  <a:ea typeface="黑体"/>
                </a:rPr>
                <a:t>实质：动力臂为阻力臂</a:t>
              </a:r>
              <a:r>
                <a:rPr b="1" lang="en-US" sz="2800" spc="-1" strike="noStrike">
                  <a:solidFill>
                    <a:srgbClr val="ffffff"/>
                  </a:solidFill>
                  <a:latin typeface="Franklin Gothic Medium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Franklin Gothic Medium"/>
                  <a:ea typeface="黑体"/>
                </a:rPr>
                <a:t>倍的杠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16"/>
            <p:cNvSpPr/>
            <p:nvPr/>
          </p:nvSpPr>
          <p:spPr>
            <a:xfrm>
              <a:off x="1674720" y="4361760"/>
              <a:ext cx="6688080" cy="5691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特点：能省力，但要多移动距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圆角矩形 22"/>
          <p:cNvSpPr/>
          <p:nvPr/>
        </p:nvSpPr>
        <p:spPr>
          <a:xfrm>
            <a:off x="457200" y="1100160"/>
            <a:ext cx="609480" cy="152064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520640"/>
              <a:gd name="textAreaBottom" fmla="*/ 1491120 h 1520640"/>
            </a:gdLst>
            <a:ahLst/>
            <a:rect l="textAreaLeft" t="textAreaTop" r="textAreaRight" b="textAreaBottom"/>
            <a:pathLst>
              <a:path w="21600" h="53872">
                <a:moveTo>
                  <a:pt x="3600" y="0"/>
                </a:moveTo>
                <a:arcTo wR="3600" hR="3600" stAng="16200000" swAng="-5400000"/>
                <a:lnTo>
                  <a:pt x="0" y="50272"/>
                </a:lnTo>
                <a:arcTo wR="3600" hR="3600" stAng="10800000" swAng="-5400000"/>
                <a:lnTo>
                  <a:pt x="18000" y="538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定滑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3"/>
          <p:cNvSpPr/>
          <p:nvPr/>
        </p:nvSpPr>
        <p:spPr>
          <a:xfrm>
            <a:off x="495360" y="3243240"/>
            <a:ext cx="609480" cy="15210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521000"/>
              <a:gd name="textAreaBottom" fmla="*/ 1491480 h 1521000"/>
            </a:gdLst>
            <a:ahLst/>
            <a:rect l="textAreaLeft" t="textAreaTop" r="textAreaRight" b="textAreaBottom"/>
            <a:pathLst>
              <a:path w="21600" h="53885">
                <a:moveTo>
                  <a:pt x="3600" y="0"/>
                </a:moveTo>
                <a:arcTo wR="3600" hR="3600" stAng="16200000" swAng="-5400000"/>
                <a:lnTo>
                  <a:pt x="0" y="50285"/>
                </a:lnTo>
                <a:arcTo wR="3600" hR="3600" stAng="10800000" swAng="-5400000"/>
                <a:lnTo>
                  <a:pt x="18000" y="538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95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动滑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5" descr=""/>
          <p:cNvPicPr/>
          <p:nvPr/>
        </p:nvPicPr>
        <p:blipFill>
          <a:blip r:embed="rId1"/>
          <a:stretch/>
        </p:blipFill>
        <p:spPr>
          <a:xfrm>
            <a:off x="716040" y="1795320"/>
            <a:ext cx="2725560" cy="1063800"/>
          </a:xfrm>
          <a:prstGeom prst="rect">
            <a:avLst/>
          </a:prstGeom>
          <a:ln w="0">
            <a:noFill/>
          </a:ln>
        </p:spPr>
      </p:pic>
      <p:pic>
        <p:nvPicPr>
          <p:cNvPr id="96" name="Object 26" descr=""/>
          <p:cNvPicPr/>
          <p:nvPr/>
        </p:nvPicPr>
        <p:blipFill>
          <a:blip r:embed="rId2"/>
          <a:stretch/>
        </p:blipFill>
        <p:spPr>
          <a:xfrm>
            <a:off x="720720" y="3181320"/>
            <a:ext cx="1332000" cy="534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086360" y="1039320"/>
            <a:ext cx="3967200" cy="3366720"/>
          </a:xfrm>
          <a:prstGeom prst="rect">
            <a:avLst/>
          </a:prstGeom>
          <a:solidFill>
            <a:srgbClr val="99ff99">
              <a:alpha val="89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F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拉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承担物重的绳子段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G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物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G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Franklin Gothic Medium"/>
                <a:ea typeface="微软雅黑"/>
              </a:rPr>
              <a:t>动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动滑轮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自由端移动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h</a:t>
            </a:r>
            <a:r>
              <a:rPr b="1" lang="en-US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物体上升的高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E:\罗梦\2017春下\人八物下\人八物导学案（下）\定滑轮动滑轮-X.TIF"/>
          <p:cNvPicPr/>
          <p:nvPr/>
        </p:nvPicPr>
        <p:blipFill>
          <a:blip r:embed="rId1"/>
          <a:stretch/>
        </p:blipFill>
        <p:spPr>
          <a:xfrm>
            <a:off x="493560" y="1278000"/>
            <a:ext cx="80139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3:22:00Z</dcterms:created>
  <dc:creator/>
  <dc:description/>
  <dc:language>en-US</dc:language>
  <cp:lastModifiedBy>Administrator</cp:lastModifiedBy>
  <dcterms:modified xsi:type="dcterms:W3CDTF">2019-01-09T08:50:11Z</dcterms:modified>
  <cp:revision>13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